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17C1-5957-440E-870C-4D0081730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C466-5E45-4505-8C9D-1013ED3E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286C-9805-4756-A3E4-2F5A203F8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DF86-7ECB-4D26-B6DA-525AB47E1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9E33-4F68-4D35-838C-0A9933E7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2A82-F789-4594-8077-D9250554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9AA4-2C47-42EE-A0F1-7D4E84BD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BF3A-A3E3-4FC4-A574-1F503B87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F144-3400-46EA-A673-842BB195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1468-E731-4AC0-B6C8-5EBD1E2A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3AA6-859D-4FA0-ADFA-871C49E7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02EE-B1E7-4CA4-8479-7791767C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AB32-E24D-4BCD-BC8F-03723689F0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iving Useful Feedb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Program Files\Microsoft Office\MEDIA\CAGCAT10\j0233018.wmf"/>
          <p:cNvPicPr/>
          <p:nvPr/>
        </p:nvPicPr>
        <p:blipFill>
          <a:blip r:embed="rId1"/>
          <a:stretch/>
        </p:blipFill>
        <p:spPr>
          <a:xfrm>
            <a:off x="3048120" y="3886200"/>
            <a:ext cx="25747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General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eedback should be about the presentation, not about the per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you explained the last step of cell division, I found it difficult to understand the part about…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“…I found you hard to understand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fessionalism of your appearance helped me feel that this was important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“You looked good up there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“You did a really good job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General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eedback should be specific, not gener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paces for me to write my data on the activity page made it easier for me to stay on track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coming in dressed as a clown, you engaged my attention really well, so I paid full attention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“I liked your activity pag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“The presentation was really fun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General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eedback should be tied to known expectations, outcomes, concepts being practic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was exciting to be able to make my ow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bservati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collec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vide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myself about the worms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“I would have liked a more critical approach to the ethics of using of living things as part of teaching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General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should provide guidance for improvement, and be based on already-present strengths whenever possi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ou had some very strong open-ended questions such as…even more of those would have helped me think more deeply about the ideas.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T “You only had two open-ended questions; you should have more.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T “It was OK, but something to watch for is that you say ‘um’ a lot, so try to have your ideas in mind before you start talking.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General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 feedback takes deliberate and conscientious practice! For most peo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not eas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does not come natural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not the same as the way we talk to others in casual contex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not a “mixed bag” of good and b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uld only be given to people we already respect, care about and want to sup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itique the Crit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You looked nervous. Maybe you should practice more before you pres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This was just an awesome activity—really, just awesome—I mean, like, truly amaz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The simple materials you used could be found anywhere, which reinforced that science is all around u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Your equipment was really great. I think using science equipment like that will help kids wonder more about how the equipment is used in real scien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Synta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eedback Synta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 you…, it helped me to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…in your lesson made me think of…in our class discuss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sponse Synta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n you tell me more about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, do I understand that you’re saying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ank you for tha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4:39:27Z</dcterms:created>
  <dc:creator>Information Technology</dc:creator>
  <dc:description/>
  <dc:language>en-US</dc:language>
  <cp:lastModifiedBy>Information Technology</cp:lastModifiedBy>
  <dcterms:modified xsi:type="dcterms:W3CDTF">2009-11-24T15:01:30Z</dcterms:modified>
  <cp:revision>3</cp:revision>
  <dc:subject/>
  <dc:title>Giving Useful Feedback</dc:title>
</cp:coreProperties>
</file>